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1D6-A884-4733-B768-98FC4CCC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1F5-AE2D-4432-8008-85A077C6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56D-4410-4851-B7AE-F5533093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078-923E-47F0-9B0C-A55042AC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5E84-62C6-41FB-B1FB-61F8F1B3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8AD9-9A1D-4B63-A7D3-02CC54C1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7788-9CD0-44C5-AD34-E288CC17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03B1-55CA-425D-AEA1-2F6F58E5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6DEC-CA00-4F3F-B1C3-6FE9020B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969F-FF91-4DB0-BDE2-C472B583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D56F-3119-4759-B4B3-DB677B2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BE2-B0D0-445F-84EE-34DA078F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437F-E7F4-4B05-8AF2-259FA0B2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9B63-60A5-42CE-B686-D721ED7F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30B0-5E17-452E-BD35-9D7D2026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B99D-B97B-4199-BEBC-AA71311E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F049-9264-4B81-B880-9C824186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0D1-8722-4047-A0A0-67029AEB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B21-C328-46F0-A751-3813F9CC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E9D-455B-4BA4-B686-B598281B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3B4-0523-4F48-8C48-56759A5C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452-5CBC-45CC-9B72-85A0C3BF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238-ABE7-489F-85A8-F2CBA50E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7DC-C890-4C22-8A78-8DE04720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2CD4-040D-403F-BFEA-14E3C4148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A120-D1C7-47D3-85E0-EB0D11136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62160" y="3048120"/>
            <a:ext cx="31100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e_Granada"/>
              </a:rPr>
              <a:t>القص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e_Granada"/>
              <a:ea typeface="ae_Granada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-1428840" y="3819600"/>
            <a:ext cx="4305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الصف الثالث الإعدادى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  <p:sp>
        <p:nvSpPr>
          <p:cNvPr id="122" name=""/>
          <p:cNvSpPr txBox="1"/>
          <p:nvPr/>
        </p:nvSpPr>
        <p:spPr>
          <a:xfrm rot="16200000">
            <a:off x="6215040" y="3810240"/>
            <a:ext cx="4300560" cy="90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</p:spTree>
  </p:cSld>
  <p:transition advTm="3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1495440"/>
            <a:ext cx="8076960" cy="1171440"/>
          </a:xfrm>
          <a:prstGeom prst="flowChartAlternateProcess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1080" y="414360"/>
            <a:ext cx="8762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75"/>
                    </a:gs>
                    <a:gs pos="50000">
                      <a:srgbClr val="0000ff"/>
                    </a:gs>
                    <a:gs pos="100000">
                      <a:srgbClr val="00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 Esfehan"/>
              </a:rPr>
              <a:t>قصــــــــ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 Esfehan"/>
              <a:ea typeface="B Esfeh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42960" y="1528920"/>
            <a:ext cx="77724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Jerk"/>
              </a:rPr>
              <a:t>Journey To The Centre Of The Earth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Jerk"/>
              <a:ea typeface="Jer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2776680"/>
            <a:ext cx="35812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aracter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9520" y="3624120"/>
            <a:ext cx="85201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xel: A young boy who lives with his uncle Professor Lidenbroc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43440" y="2762280"/>
            <a:ext cx="32004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شخصيات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09840" y="4033800"/>
            <a:ext cx="65293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كسل: شاب يعيش مع عمه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47760" y="490680"/>
            <a:ext cx="4829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175e"/>
                    </a:gs>
                    <a:gs pos="50000">
                      <a:srgbClr val="3333cc"/>
                    </a:gs>
                    <a:gs pos="100000">
                      <a:srgbClr val="1717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ORY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2090880"/>
            <a:ext cx="670572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acstArt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acstArt"/>
              <a:ea typeface="KacstAr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40" y="4629240"/>
            <a:ext cx="8601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rofessor Lidenbrock: A famous scientist and geologist . Axel’ s uncl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5100480"/>
            <a:ext cx="74106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بروفيسير ليدنبروك: عالم مشهور وجيولوجى ، عم أكسل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" y="5681520"/>
            <a:ext cx="620568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tha: Professor Lidenbrock’ s c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05320" y="6062760"/>
            <a:ext cx="542916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ثا: طباخة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5120" y="547560"/>
            <a:ext cx="468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ns: A guide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257800" y="914400"/>
            <a:ext cx="367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نز: مرشد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00160" y="1442880"/>
            <a:ext cx="6048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Dr Fridrikson: A scientist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0160" y="2308320"/>
            <a:ext cx="52099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les Verne: A writer of the stor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0160" y="3195720"/>
            <a:ext cx="6962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orri Sturlasson: A writer of the old b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5120" y="4052880"/>
            <a:ext cx="765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rne Saknussemm: A writer of the parchment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76720" y="1857240"/>
            <a:ext cx="565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دكتور فريدريكسون: عالم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52880" y="2824200"/>
            <a:ext cx="398160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جول فيرن: كاتب القصه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7600" y="3648240"/>
            <a:ext cx="52768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ورى سترلاسون: كاتب الكتاب القديم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448160" y="4557600"/>
            <a:ext cx="4495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آرن ساكنوسم: كاتب البرشمان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423720"/>
            <a:ext cx="3429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ce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0160" y="1162080"/>
            <a:ext cx="490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mburg: A city in German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29040" y="380880"/>
            <a:ext cx="31244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أماكن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562720" y="1533600"/>
            <a:ext cx="33717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مبورج: مدينه فى ألمان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5120" y="2023920"/>
            <a:ext cx="71200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Iceland: An island in the North Sea above Europe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24080" y="248616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يسلندا: جزيره فى بحر الشمال فوق أوروبا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0160" y="3024360"/>
            <a:ext cx="66625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Reykjavik: The capital city of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05520" y="3443400"/>
            <a:ext cx="3828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ريكجافيك: عاصمة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5120" y="3913200"/>
            <a:ext cx="62056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effels: An axticit volcano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67080" y="4352760"/>
            <a:ext cx="466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يفلز: بركان خامد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5120" y="485316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cartaris: A high mountain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33920" y="5229360"/>
            <a:ext cx="520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كارتاريس: جبل عالى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5120" y="571824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penhagen: The capital city of Denmar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05520" y="6138720"/>
            <a:ext cx="382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كوبنهاجن: عاصمة الدنمار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5120" y="442800"/>
            <a:ext cx="826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romboli: A small island off the coast of southern Italy 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438280" y="890640"/>
            <a:ext cx="6496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ترومبولى: جزيره صغيره بعيده عن الساحل الجنوبى لإيطاليا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95120" y="1400040"/>
            <a:ext cx="65106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an Vicenzo: The largest town on Stromboli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179532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ان فتشنزو: أوسع بلده فى سترومبولى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5120" y="2347920"/>
            <a:ext cx="742500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essina: A port on the island of Sicily, Ital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743200" y="2771640"/>
            <a:ext cx="6191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يسينا: ميناء على جزيرة صقليه فى إيطال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5120" y="3233880"/>
            <a:ext cx="795816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seilles: A port on the southern coast of Franc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3672000"/>
            <a:ext cx="619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سيليا: ميناء على الساحل الجنوبى لفرنس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71600" y="5715000"/>
            <a:ext cx="61722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Kufi14 Normal"/>
              </a:rPr>
              <a:t>إلى اللقاء مع الفصل الأول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Kufi14 Normal"/>
              <a:ea typeface="Kufi14 Normal"/>
            </a:endParaRPr>
          </a:p>
        </p:txBody>
      </p:sp>
    </p:spTree>
  </p:cSld>
  <p:transition advTm="3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3:57:59Z</dcterms:created>
  <dc:creator>A1-AL-FARIS</dc:creator>
  <dc:description/>
  <dc:language>en-US</dc:language>
  <cp:lastModifiedBy>Arwa</cp:lastModifiedBy>
  <dcterms:modified xsi:type="dcterms:W3CDTF">2009-09-28T19:39:53Z</dcterms:modified>
  <cp:revision>14</cp:revision>
  <dc:subject/>
  <dc:title>الشريحة 1</dc:title>
</cp:coreProperties>
</file>